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5.jpeg" ContentType="image/jpeg"/>
  <Override PartName="/ppt/media/image8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B757-4FCF-4993-A262-972A9639D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C6B1-5A7D-4758-B7F9-3D2E9156F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6C17-4EA8-4B8E-996A-04DA17C8E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971E-F5DF-4583-BC37-671E34CF1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E069-6841-49FD-82FC-046600BE2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9495-7B39-4DB5-86B6-9352307AB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93FB-8407-4BF5-A789-D5A72CC6A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95CF-DF99-4ACC-86F2-DD03A86AF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23E2-F593-4174-81E8-8D97149EE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E12B-E0BE-4536-B1E5-54CDA74BA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627A-4C00-44B6-84C2-C9825BEFE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18E5-81F6-4279-9889-9F98CC9B7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7638-5DA7-44C9-B696-03BD07E60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8775-4882-4707-A962-31DD439C5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627B-8FEE-4FF6-BC5F-30F221ABC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C65C-8127-4E1A-A835-90BAFD97E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45C2-EDC1-40F7-BD2B-CBB9B8EB1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78BD-BACC-4932-A7CB-C7BD5E695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7020-0140-4CD0-9ED0-D7A8D98FF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8752-A9AD-4EB9-9F95-EABA4A72F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E864-AD34-4636-8191-4585C8077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6F28-AEC1-4E7F-B1F4-6D32BFA02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CA0B-66B4-4138-B559-682EB7F5A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6170-54F2-4BC9-9191-A12DC26DA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90D9-E720-44D5-9A5A-6D3506873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4C19-2032-4DA6-A9BA-533E793FD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348C-B310-49E0-BC6A-0E8020EA1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07F9-A4EC-48BE-8544-6F7640102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9217-41A5-45AA-B506-11837D5A2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B459-F3DF-4283-B322-B77628C40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5839-4B26-4212-8EA0-26A842601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C432-F5B1-4C44-AE26-9EB515218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6DFE-27CF-41BD-A00D-9DAB7101F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54B0-DDB7-4CEB-AFD7-1028A170D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279E-9F02-4162-AD90-8BF20CD9F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9428-A71E-44D7-81F3-EA83B032C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83DC-0580-4E5B-A035-C27D6D897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C773-F812-4A5D-9CFB-B86072C9C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708A-03BE-4DCA-A1F1-32C9C318A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5A90-ABAF-4B8C-A333-7E84742D5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CA13-92A4-411F-B7B6-2C7761D10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654A-7048-4291-8BBE-9C8F08D19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1EDA-A1C5-43AE-9894-7E23BF119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97A3-DDBC-4FE5-9A59-F30A81B3A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E8E9-A012-48BF-8445-DE5731198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758-0127-467A-BA46-DCCFB7C3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425-3E5A-4224-BD5C-FBC47795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DCBB5-87D0-48FE-8BE2-F0505F95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B7202-673C-452C-8BD6-68A7086D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65F2A-3B59-4EB8-AD35-E5DDBA6C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537BD-431A-4AB7-A8C9-9C4330E9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9317A-ECA5-4E21-9423-2EC3F753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C55E0-E922-4B0D-B8C6-9E3CF6A9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E3B0B-3EAB-49B9-81BC-5716B8B2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F293A-9F81-4799-9D62-1346F7FF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8CFEB-A0BD-4D49-A316-0261FE84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AEB2D-FA3F-48F2-964C-C5A4A729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55CF-5273-447A-8D20-610467F7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F741D-77C2-40F6-B765-6ABEF5D7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FA0FE-9F36-4F7C-8A2E-0341797A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FDC77-3B92-4809-8DBC-8B9B25F9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56B3E-B21C-4DDE-90C9-651C6218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27323-103F-4692-8CDF-D0397957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7007E-4F57-4DA8-83A7-EB14D278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24D4D-65CC-4513-BBBC-565EF644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6669F-1DC8-4EB6-8FF4-93A59957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35598-3C68-4DF2-97A1-9CF15764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40CCC-863E-4D43-B2C5-59CB1E7A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944-EB91-4A2B-B70A-8A5A5489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35F9C-6320-4B55-BB19-334C9B1E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4212-00C2-4BCD-B2B5-03989E75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4EBB-6734-4B6D-A24A-E415FDD8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1E4F-46A8-4F16-8B95-3039BDB1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EC63-C3C3-4FC9-A174-80A590C8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7FD1-0C58-43F3-BA9D-742EC321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8C40-DFB0-4285-BEEE-4F1AC6D1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62E1-EC55-4E68-B8EA-7749D4FB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435-B075-4992-A2A2-C4F890EC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086A-8FEA-4BF3-A8C2-6200E05F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4C9D-B317-4AC9-BCF0-ED2DB8DA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50FC-6654-4BEF-9E5C-E3F90686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8078-95E8-46D3-BA01-FDCBBBF6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907F-675E-4BC0-889C-C82D8BBF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00FA2-4AFD-445F-B4AB-95930DEE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F8F7C-83DD-4BB3-ABCF-4CE03380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5919F-158E-41C6-9017-1C6EBBE9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1B242-D4FB-4DC2-9B12-3044A2EA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59013-E3AD-4A8C-963B-E58E8BF7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456-0462-4309-9693-ED297107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FC1A7-D15E-4622-9D87-FB0F0DDB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A96C1-2E87-4A9E-B0C9-2D55ECDF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D5705-DA9F-4C7C-8010-358E2400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A28EE-4BE3-4146-BAC1-C58096A3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F5612-C56A-4E71-8D80-56896A8B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7DB49-8EFD-4AB0-B980-6E9C0586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97B73-BF0A-4E74-A82F-B9A2F20B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F74D6-0355-478B-9866-15DF7EF8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6FB49-6BE7-444C-99F3-0D300532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51BC4-1440-42FD-8970-1BF083AE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164-58F6-4476-B58B-A76AB9D6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994F9-8077-4E01-B6AD-D5DFBD2B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C3CF4-E26E-4C5B-80FA-9A9F43AE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8AA7C-F775-4205-9015-6377456A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7DC42-4A84-4CF3-A6BA-DE8FDEBB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954EA-02E8-4A91-8D87-97DC3449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071FE-1F7C-404A-B972-F2DA7FF0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B67B7-561B-46B9-B588-DA768F91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3DCC9-06E6-4C2F-86AE-DE02BC43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66F83-D6C4-4606-AA4F-2E0426B2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C161D-D7F7-4F2F-A2C2-8C57CD67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3FB-99D4-498A-BE57-88429A72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3192E-81F9-476B-95F8-0A7ECF61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4067F-4D78-40A9-A926-EA132B5D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E7978-7FC5-4CF9-85DE-10571CCE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9E93E-47A0-4C31-974D-6B207F48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DEF31-173A-4405-B6B1-2F6C4BF9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DE54C-5AE9-4F74-87FB-B2CC7DE7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14C34-FD28-463B-8B15-BD890872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C5D93-3F6A-4A2C-8868-EF76A176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C7B60-6CB3-40F5-AD3F-2BC591EB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4829B-8337-4DD4-9019-A8CE5508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F912-4CE7-4DAC-821A-E51F7A52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A51D4-F1A7-40EE-B61A-FC3FFCE9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AB317-CB17-4BA0-A62D-690AEEF5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800F3-B63C-427E-906D-E6642623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259F1-6088-4C01-9507-151B0757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37C9A-BE1F-4738-ACE4-3782A84A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9011B-64DB-4C64-8C9D-3AFC8005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7A352-39CD-48E2-8297-8C9AE22A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7C3FB-93EE-46F2-82EF-36AE8376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69F3A-EE59-4BFE-8EA6-C359E39A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0C63E-C7DA-4E18-B6D3-566FF163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ED90-C43D-4B0F-BFBF-7E314DB9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D5581-1C31-4E4A-9F2B-89862DA2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CB696-A629-471A-A576-F223F9C3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9A707-F876-4184-95A2-646544D0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986CD-9D35-4689-AC4B-6C0240F0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084AE-D6E0-4784-88B0-CC54BAE2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ACE56-85E6-4ED3-AF01-3E89B355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65B9E-0C3C-4775-8307-6D12D2A2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83A13-2548-463D-814A-4463FE47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6A588-F8ED-4FCE-B7A0-F4AFC2D0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96AF3-D317-468F-9184-285EF2CE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41D-BDEC-4F0D-BC41-332242D2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AEF70-3D6D-40E9-B1FC-EE137897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A7D4D-2845-40F1-9FB4-BBB4A690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D148B-0651-4D30-92BE-4FBD71E9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871D7-B64C-4050-B539-73733BD0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C1CC9-586B-4FD2-B9F8-09C8D213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B2C53-E916-4E9F-90CC-44F689A8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4533D-FA11-4B6E-9D17-6B5BF1F9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D1585-8D97-40C8-983A-7AF69EF9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F071C-1AF9-431A-98A8-B12CD91D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A6340-3D6F-4401-B137-7466818F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9AB-7661-426A-B5F8-1BC35AA9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F622D-C37B-4E34-966C-479AFFDF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7BC23-24F1-4E51-B702-AA70471D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0F793-723C-4E85-A1B5-E602D1D9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A02B0-98B1-4BDB-B552-8FF3E9D3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930A6-88A6-4294-B912-E739B34A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EEAB3-D2F0-446B-8ABD-B93DBCF3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54F5C-0F29-4E6A-912D-69462E72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D8D78-CABE-4B52-B696-31710B84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55D63-94B9-4B47-BDA8-469F6068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ABC9B-5D5C-43CB-94EE-88469A78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CE75-4CB9-47AC-BC5E-5D8A0C5A46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762C-4582-40DA-97A6-9B3785F477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6C4D-DE3E-4526-BCD7-02EC497B73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E298-DD0C-4077-9C03-AF1F027C5C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679B-7C1A-4BC9-8900-738AB78484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C965-0CB3-4250-AD62-D48BA753EC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238A-0E04-4878-85F9-B7E41D69EA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A48E-951E-4C27-8600-3466A191AE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051F-0370-475D-9798-379CEAB9C8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2989-F591-4641-982F-2632D012B7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914400" y="1905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DNA AND PROTEIN SYNTHESI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Lucida Sans Unicode"/>
              </a:rPr>
              <a:t>Mr. O’Conn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Lucida Sans Unicode"/>
              </a:rPr>
              <a:t>Biology 201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cific base pairing arrangement (Chargaff’s Ru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A-T : 2 hydrogen bo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-G : 3 hydrogen bo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itrogen bases attach to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he sugar portion of the side (NOT the phosphat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rands run in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opposite dire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91" name="Object 5"/>
          <p:cNvGraphicFramePr/>
          <p:nvPr/>
        </p:nvGraphicFramePr>
        <p:xfrm>
          <a:off x="708120" y="457200"/>
          <a:ext cx="29764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457200"/>
                    <a:ext cx="29764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8"/>
          <p:cNvSpPr/>
          <p:nvPr/>
        </p:nvSpPr>
        <p:spPr>
          <a:xfrm>
            <a:off x="0" y="109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94" name="Object 7"/>
          <p:cNvGraphicFramePr/>
          <p:nvPr/>
        </p:nvGraphicFramePr>
        <p:xfrm>
          <a:off x="5334120" y="914400"/>
          <a:ext cx="3066840" cy="46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914400"/>
                    <a:ext cx="306684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 OF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codes for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proteins (structural proteins, enzymes, and hormon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ation for building proteins is carried in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he sequence of nitrogen b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teins determine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physical and metabolic traits and regulate growth and develop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DNA%20to%20protein"/>
          <p:cNvPicPr/>
          <p:nvPr/>
        </p:nvPicPr>
        <p:blipFill>
          <a:blip r:embed="rId2"/>
          <a:stretch/>
        </p:blipFill>
        <p:spPr>
          <a:xfrm>
            <a:off x="533520" y="1143000"/>
            <a:ext cx="78483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NA RE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Process in which DNA is copi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URPOSE OF DNA RE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ives daughter cells produced by cell division a complete set of genetic information identical to the parent ce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HERE REPLICATION OCCU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Nucle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HEN DURING THE CELL CYCLE REPLICATION OCCU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Interphase (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OW REPLICATION OCCU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 Helicase enzyme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unzip the parent strand by separating the nitrogen base pai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 DNA polymerase pairs free DNA nucleotides with the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exposed bases on both strands following the base pair ru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strand from the parent molecule serve as a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empl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 Hydrogen bonds reform spontaneously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sealing the two strands of each DNA molecule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DNA (DEOXYRIBONUCLEIC ACID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a1f28"/>
                </a:solidFill>
                <a:latin typeface="Lucida Sans Unicode"/>
              </a:rPr>
              <a:t>Nucleic acid that composes chromosomes and carries genetic information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SULTS OF RE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molecules of DNA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hat are identic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i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half old (strand from parent) and half new (strand synthesized by DNA polymeras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5" descr="dnacopy"/>
          <p:cNvPicPr/>
          <p:nvPr/>
        </p:nvPicPr>
        <p:blipFill>
          <a:blip r:embed="rId1"/>
          <a:stretch/>
        </p:blipFill>
        <p:spPr>
          <a:xfrm>
            <a:off x="990720" y="1143000"/>
            <a:ext cx="70102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Proteins are important becaus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 Unicode"/>
              </a:rPr>
              <a:t>Enzymes are proteins- control every chemical reaction in cel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 Unicode"/>
              </a:rPr>
              <a:t>Body structure are proteins-Hair, muscle, skin, blood etc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Sans Unicode"/>
              </a:rPr>
              <a:t>Hormones are proteins-Insulin, adrenaline, growth hormones etc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Title 4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RNA (RIBONUCLEIC ACID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a1f28"/>
                </a:solidFill>
                <a:latin typeface="Lucida Sans Unicode"/>
              </a:rPr>
              <a:t>Nucleic acid involved in the synthesis of protei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NA STRUC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osed of nucleotides, but differs from DNA in three way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Single strand of nucleotides instead of double strand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Has uracil instead of thym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ontains ribose instead of deoxyribo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5" descr="COMPAREdnarna"/>
          <p:cNvPicPr/>
          <p:nvPr/>
        </p:nvPicPr>
        <p:blipFill>
          <a:blip r:embed="rId1"/>
          <a:stretch/>
        </p:blipFill>
        <p:spPr>
          <a:xfrm>
            <a:off x="838080" y="457200"/>
            <a:ext cx="3157560" cy="62485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" descr="T_vs_U"/>
          <p:cNvPicPr/>
          <p:nvPr/>
        </p:nvPicPr>
        <p:blipFill>
          <a:blip r:embed="rId2"/>
          <a:stretch/>
        </p:blipFill>
        <p:spPr>
          <a:xfrm>
            <a:off x="4572000" y="304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" descr="sugars"/>
          <p:cNvPicPr/>
          <p:nvPr/>
        </p:nvPicPr>
        <p:blipFill>
          <a:blip r:embed="rId3"/>
          <a:stretch/>
        </p:blipFill>
        <p:spPr>
          <a:xfrm>
            <a:off x="4800600" y="3581280"/>
            <a:ext cx="37051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NA FUN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ree forms of RNA involved in protein synthe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 mRNA (messenger):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opies instructions in DNA and carries these to the riboso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 tRNA (transfer):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arries amino acids to the riboso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 rRNA (ribosomal):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omposes the riboso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ROTEIN SYNTHE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ells build proteins following instructions coded in genes (DNA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ists of two parts,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ranscription and trans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RANSCRIP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DNA is copied into a complementary strand of mRNA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cannot leave the nucleus. Proteins are made in the cytoplasm.  mRNA serves as a “messenger” and carries the protein building instructions to the ribosomes in the cytoplas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OCATION OF TRANSCRIP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Nucle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ROMOSOME ORGAN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 A chromosome is an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enormous strand of super coiled DN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 Sections of DNA on the chromosome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hat code for proteins are called ge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 Noncoding sections of DNA are called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“junk DNA”  (regulatory or unknown func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OW TRANSCRIPTION OCCU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RNA polymerase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untwists and unzips a section of DNA (usually a single gene) from a chromoso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 RNA polymerase pair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free RNA nucleotides to the exposed bases of one of the DNA strands following base pair ru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Uracil replaces thym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y 1 strand of DNA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serves as a template, the other “hangs out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 Newly synthesized mRNA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separates from template DNA and DNA zips back u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5" descr="transcriptionA"/>
          <p:cNvPicPr/>
          <p:nvPr/>
        </p:nvPicPr>
        <p:blipFill>
          <a:blip r:embed="rId1"/>
          <a:stretch/>
        </p:blipFill>
        <p:spPr>
          <a:xfrm>
            <a:off x="2057400" y="4572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SULT OF TRANSCRIP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mRNA strand with instructions for building a protein that leaves the nucleus and goes to the cytoplas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RANSCRIPTION EXAMP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nscribe the following DNA Sequence in mR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C   CGG  ATC  CTA  GGA  TC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UG  GCC  UAG  GAU  CCU  AG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ROTEI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Structural and functional components of organis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osed of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amino ac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rder of nucleotides in DNA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determines order of amino acids in a prote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e gene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odes for one prote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5" descr="17x3"/>
          <p:cNvPicPr/>
          <p:nvPr/>
        </p:nvPicPr>
        <p:blipFill>
          <a:blip r:embed="rId2"/>
          <a:stretch/>
        </p:blipFill>
        <p:spPr>
          <a:xfrm>
            <a:off x="1911240" y="304920"/>
            <a:ext cx="5056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ENETIC CO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“language” that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ranslates the sequence of nitrogen bases in DNA (mRNA) into the amino acids of a prote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don =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hree nucleotides on DNA or mR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e codon specifie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one amino ac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 codons are redundant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(code for the same amino aci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genetic code i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universal to all organis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codon"/>
          <p:cNvPicPr/>
          <p:nvPr/>
        </p:nvPicPr>
        <p:blipFill>
          <a:blip r:embed="rId2"/>
          <a:stretch/>
        </p:blipFill>
        <p:spPr>
          <a:xfrm>
            <a:off x="2705040" y="304920"/>
            <a:ext cx="3925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" descr="chromosomesgenes"/>
          <p:cNvPicPr/>
          <p:nvPr/>
        </p:nvPicPr>
        <p:blipFill>
          <a:blip r:embed="rId2"/>
          <a:stretch/>
        </p:blipFill>
        <p:spPr>
          <a:xfrm>
            <a:off x="1676520" y="896760"/>
            <a:ext cx="5410080" cy="40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7" descr="SCI_Amino_Acid_CIRCLE"/>
          <p:cNvPicPr/>
          <p:nvPr/>
        </p:nvPicPr>
        <p:blipFill>
          <a:blip r:embed="rId1"/>
          <a:stretch/>
        </p:blipFill>
        <p:spPr>
          <a:xfrm>
            <a:off x="2514600" y="0"/>
            <a:ext cx="4038480" cy="40672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838080" y="4190760"/>
            <a:ext cx="78487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NA:     TAC  CTT  GTG  CAT  GGG  AT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RNA   AUG  GAA CAC  GUA  CCC  UA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.A        MET  G.A   HIS   VAL   PRO  STO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MPORTANT COD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UG =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start translation (Me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AA, UAG, UGA=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stop trans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RANS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Instructions in mRNA are used to build a prote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OCATION OF TRANS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ribosome (in the cytoplasm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ROCESS OF TRANS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 mRNA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binds to the riboso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 Ribosome searches for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start codon (AU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 tRNA bring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orrect amino acid (methionine) to the riboso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tRNA carrie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one type of amino aci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nticodon (three nitrogen bases on tRNA)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must complement codon for amino acid to be added to protein cha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. ribosome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reads next cod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. tRNA’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ontinue lining up amino acids according to cod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6. peptide bond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link amino acids toge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7. ribosome reaches STOP cod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Amino acid chain is relea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SULT OF TRANS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A Prote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486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BUILDING BLOCKS OF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Composed of nucleoti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cleotides contain three par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5-Carbon Sugar (deoxyribos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2.  Phosphate Grou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 Nitrogen Base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(four types, adenine, guanine, thymine and cytosin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5" descr="http://www.msu.edu/course/isb/202/ebertmay/drivers/nucleotide.jpg"/>
          <p:cNvPicPr/>
          <p:nvPr/>
        </p:nvPicPr>
        <p:blipFill>
          <a:blip r:embed="rId2"/>
          <a:stretch/>
        </p:blipFill>
        <p:spPr>
          <a:xfrm>
            <a:off x="1523880" y="914400"/>
            <a:ext cx="563904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enine and Guanine are purine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(composed of two rings of nitrogen atom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82" name="Object 4"/>
          <p:cNvGraphicFramePr/>
          <p:nvPr/>
        </p:nvGraphicFramePr>
        <p:xfrm>
          <a:off x="1752480" y="2360520"/>
          <a:ext cx="518184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0520"/>
                    <a:ext cx="5181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ymine and Cytosine are pyrimidine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(composed of one ring of nitrogen atom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86" name="Object 4"/>
          <p:cNvGraphicFramePr/>
          <p:nvPr/>
        </p:nvGraphicFramePr>
        <p:xfrm>
          <a:off x="1676520" y="2133720"/>
          <a:ext cx="5229000" cy="32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522900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TRUCTURE OF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ists of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wo strands of nucleotides that form a twisted ladder (double helix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gar and phosphate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alternate along the sides of the ladder (linked by strong covalent bond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irs of nitrogen bases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form the rungs of the ladder (linked by weak hydrogen bond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3:50:49Z</dcterms:created>
  <dc:creator>John AJ O'Connor</dc:creator>
  <dc:description/>
  <dc:language>en-US</dc:language>
  <cp:lastModifiedBy>John AJ O'Connor</cp:lastModifiedBy>
  <dcterms:modified xsi:type="dcterms:W3CDTF">2011-01-04T04:19:47Z</dcterms:modified>
  <cp:revision>5</cp:revision>
  <dc:subject/>
  <dc:title>PowerPoint Presentation</dc:title>
</cp:coreProperties>
</file>